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5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990360" y="766440"/>
            <a:ext cx="5119560" cy="3840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Click to move the slide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6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7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8D1D3-C641-4156-8551-BB56AF2F6745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スライド番号プレースホル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71CF2-A763-4750-8706-3F4D82388B2E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F7CFB-A333-4662-8A85-D04EFC2D5A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E2BEB-01EF-4B1F-BBEF-E3D7E943C2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B5FD5-5468-483B-8417-9E3A5DB2A3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798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384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062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798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384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27885-97E4-4AD0-867C-FA5AB2C0FF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01F18-5D1C-4C7B-B12B-84A3EF04F00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6E76B-8146-4515-A551-22E980703AD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0B0A6-9297-46F0-B182-D125A67A244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33C55-1664-456E-80BF-BA3C7A8AA4B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5862F-BB62-4399-BE50-3B792DE78AA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05920" y="185760"/>
            <a:ext cx="768348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602B4-C747-4AAC-A7F0-297F2D238D7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4DEBE-9AE0-4249-B958-6E63E8E6C4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61226-BFC9-4075-B057-FB66EBEFBD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ADA29-7B35-4A0B-9214-18AF6271EDE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09F64-940C-4D03-B830-40AB9D259C2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F26A8-CDB6-492F-AFC2-7E3D2A8B834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85EBB-A27A-45CA-907A-4F4653954B2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798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5384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062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798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5384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1DB0F-6EBD-483E-AAEC-59B79260AC2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1086-3BA0-45E1-B0C3-1861543FC5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9BFB-3DCE-4DB3-99A9-C75A14C0C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3523-17D0-447F-A478-09F4445D4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F86A-1ADA-4DE0-9E12-FFB40F5E0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F0BF-4367-4C56-9208-C0BF0C93F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EAA05-87DA-41B1-85AA-8524A2EB61B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205920" y="185760"/>
            <a:ext cx="768348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9F7E-5E16-44A4-8A07-6AE3FAE4B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76AD-953F-4723-925B-832329CAB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0F71-CF5C-45B3-AEE5-77B0DA8C3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17C5-F97C-4F22-8BCC-E11306A61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9D88-30A5-41BA-A7FA-8F86F9642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AFBB-77B3-4D37-8EBD-075E35AE7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1798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5384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2062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1798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5384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5875-56A9-4A72-B11D-630915DCE2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86787-7AFF-4050-8FD2-78B733BB9B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60F68-1FEA-499E-9272-A5B897D248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05920" y="185760"/>
            <a:ext cx="768348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00AB1-AFD1-4C00-8C88-BE140C241C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C15BF-5884-4BB5-B339-A98610487C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C870F-4BCE-4196-BD71-E1335581A4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4D910-B71B-471B-8075-27400B0FF2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Click to edit the title text format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3" marL="16002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4" marL="2057400" indent="-22860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572680" y="6535440"/>
            <a:ext cx="47592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DAC22-240C-4EC3-86FC-0239F0887B67}" type="slidenum">
              <a:rPr b="0" lang="ja-JP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角丸四角形 10"/>
          <p:cNvSpPr/>
          <p:nvPr/>
        </p:nvSpPr>
        <p:spPr>
          <a:xfrm>
            <a:off x="206280" y="871560"/>
            <a:ext cx="7704360" cy="7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bd1b8"/>
              </a:gs>
              <a:gs pos="100000">
                <a:srgbClr val="f3f0e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3" descr="C:\Documents and Settings\hiroyuki.watanabe\My Documents\UMLロボコン\2010\ロゴ\100528ETRC2010新ロゴ1.0\ETRC2010-logo\ETrobot_logo-4C-S.jpg"/>
          <p:cNvPicPr/>
          <p:nvPr/>
        </p:nvPicPr>
        <p:blipFill>
          <a:blip r:embed="rId2"/>
          <a:stretch/>
        </p:blipFill>
        <p:spPr>
          <a:xfrm>
            <a:off x="7967520" y="128520"/>
            <a:ext cx="1078200" cy="743040"/>
          </a:xfrm>
          <a:prstGeom prst="rect">
            <a:avLst/>
          </a:prstGeom>
          <a:ln w="0">
            <a:noFill/>
          </a:ln>
        </p:spPr>
      </p:pic>
      <p:sp>
        <p:nvSpPr>
          <p:cNvPr id="5" name="テキスト ボックス 12"/>
          <p:cNvSpPr/>
          <p:nvPr/>
        </p:nvSpPr>
        <p:spPr>
          <a:xfrm>
            <a:off x="471960" y="6562800"/>
            <a:ext cx="253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ロボコン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12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実施説明会資料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ロボコン実行委員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30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9f2936"/>
          </a:solidFill>
          <a:ln w="9360">
            <a:solidFill>
              <a:srgbClr val="baad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図 1" descr=""/>
          <p:cNvPicPr/>
          <p:nvPr/>
        </p:nvPicPr>
        <p:blipFill>
          <a:blip r:embed="rId3"/>
          <a:stretch/>
        </p:blipFill>
        <p:spPr>
          <a:xfrm>
            <a:off x="6684840" y="6523200"/>
            <a:ext cx="1822680" cy="285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テキスト ボックス 9"/>
          <p:cNvSpPr/>
          <p:nvPr/>
        </p:nvSpPr>
        <p:spPr>
          <a:xfrm>
            <a:off x="471960" y="6562800"/>
            <a:ext cx="253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ロボコン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12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実施説明会資料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ロボコン実行委員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0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9f2936"/>
          </a:solidFill>
          <a:ln w="9360">
            <a:solidFill>
              <a:srgbClr val="baad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C:\Documents and Settings\hiroyuki.watanabe\My Documents\UMLロボコン\2010\ロゴ\100528ETRC2010新ロゴ1.0\ETRC2010-logo\ETrobot_logo-4C-S.jpg"/>
          <p:cNvPicPr/>
          <p:nvPr/>
        </p:nvPicPr>
        <p:blipFill>
          <a:blip r:embed="rId2"/>
          <a:stretch/>
        </p:blipFill>
        <p:spPr>
          <a:xfrm>
            <a:off x="3230640" y="4413240"/>
            <a:ext cx="2800440" cy="1924200"/>
          </a:xfrm>
          <a:prstGeom prst="rect">
            <a:avLst/>
          </a:prstGeom>
          <a:ln w="0">
            <a:noFill/>
          </a:ln>
        </p:spPr>
      </p:pic>
      <p:pic>
        <p:nvPicPr>
          <p:cNvPr id="47" name="図 15" descr=""/>
          <p:cNvPicPr/>
          <p:nvPr/>
        </p:nvPicPr>
        <p:blipFill>
          <a:blip r:embed="rId3"/>
          <a:stretch/>
        </p:blipFill>
        <p:spPr>
          <a:xfrm>
            <a:off x="6746760" y="6526080"/>
            <a:ext cx="1792440" cy="2811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Click to edit the title text format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3" marL="16002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4" marL="2057400" indent="-22860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2"/>
          </p:nvPr>
        </p:nvSpPr>
        <p:spPr>
          <a:xfrm>
            <a:off x="8572680" y="6535440"/>
            <a:ext cx="47592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3D14F-B627-4EBB-A55C-DB516267FD19}" type="slidenum">
              <a:rPr b="0" lang="ja-JP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角丸四角形 10"/>
          <p:cNvSpPr/>
          <p:nvPr/>
        </p:nvSpPr>
        <p:spPr>
          <a:xfrm>
            <a:off x="206280" y="871560"/>
            <a:ext cx="7704360" cy="7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bd1b8"/>
              </a:gs>
              <a:gs pos="100000">
                <a:srgbClr val="f3f0e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C:\Documents and Settings\hiroyuki.watanabe\My Documents\UMLロボコン\2010\ロゴ\100528ETRC2010新ロゴ1.0\ETRC2010-logo\ETrobot_logo-4C-S.jpg"/>
          <p:cNvPicPr/>
          <p:nvPr/>
        </p:nvPicPr>
        <p:blipFill>
          <a:blip r:embed="rId2"/>
          <a:stretch/>
        </p:blipFill>
        <p:spPr>
          <a:xfrm>
            <a:off x="7967520" y="128520"/>
            <a:ext cx="1078200" cy="743040"/>
          </a:xfrm>
          <a:prstGeom prst="rect">
            <a:avLst/>
          </a:prstGeom>
          <a:ln w="0">
            <a:noFill/>
          </a:ln>
        </p:spPr>
      </p:pic>
      <p:sp>
        <p:nvSpPr>
          <p:cNvPr id="89" name="テキスト ボックス 12"/>
          <p:cNvSpPr/>
          <p:nvPr/>
        </p:nvSpPr>
        <p:spPr>
          <a:xfrm>
            <a:off x="471960" y="6562800"/>
            <a:ext cx="253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ロボコン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12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実施説明会資料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ロボコン実行委員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0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9f2936"/>
          </a:solidFill>
          <a:ln w="9360">
            <a:solidFill>
              <a:srgbClr val="baad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図 1" descr=""/>
          <p:cNvPicPr/>
          <p:nvPr/>
        </p:nvPicPr>
        <p:blipFill>
          <a:blip r:embed="rId3"/>
          <a:stretch/>
        </p:blipFill>
        <p:spPr>
          <a:xfrm>
            <a:off x="6684840" y="6523200"/>
            <a:ext cx="1822680" cy="2854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Click to edit the title text format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3" marL="16002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4" marL="2057400" indent="-22860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Num" idx="3"/>
          </p:nvPr>
        </p:nvSpPr>
        <p:spPr>
          <a:xfrm>
            <a:off x="8572680" y="6535440"/>
            <a:ext cx="47592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763FC-758E-46B7-BCD3-B4092A80A290}" type="slidenum">
              <a:rPr b="0" lang="en-US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dt" idx="4"/>
          </p:nvPr>
        </p:nvSpPr>
        <p:spPr>
          <a:xfrm>
            <a:off x="63360" y="6586560"/>
            <a:ext cx="104472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02EA3-DBC8-4F39-8A20-555D156FD94A}" type="datetime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26/07/30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5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E7165-BE81-4EAC-9C90-5639BC3BF0C7}" type="slidenum">
              <a:rPr b="0" lang="ja-JP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5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D696C-B000-4347-86EC-7E77FCA0B97B}" type="slidenum">
              <a:rPr b="0" lang="ja-JP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81080" y="622440"/>
            <a:ext cx="839160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メイリオ"/>
              </a:rPr>
              <a:t>ET</a:t>
            </a:r>
            <a:r>
              <a:rPr b="0" lang="ja-JP" sz="2800" spc="-1" strike="noStrike">
                <a:solidFill>
                  <a:srgbClr val="323232"/>
                </a:solidFill>
                <a:latin typeface="メイリオ"/>
              </a:rPr>
              <a:t>ロボコン</a:t>
            </a:r>
            <a:r>
              <a:rPr b="0" lang="en-US" sz="2800" spc="-1" strike="noStrike">
                <a:solidFill>
                  <a:srgbClr val="323232"/>
                </a:solidFill>
                <a:latin typeface="メイリオ"/>
              </a:rPr>
              <a:t>2012</a:t>
            </a:r>
            <a:br>
              <a:rPr sz="2400"/>
            </a:br>
            <a:r>
              <a:rPr b="1" lang="en-US" sz="4000" spc="-1" strike="noStrike">
                <a:solidFill>
                  <a:srgbClr val="323232"/>
                </a:solidFill>
                <a:latin typeface="メイリオ"/>
              </a:rPr>
              <a:t>ET</a:t>
            </a:r>
            <a:r>
              <a:rPr b="1" lang="ja-JP" sz="4000" spc="-1" strike="noStrike">
                <a:solidFill>
                  <a:srgbClr val="323232"/>
                </a:solidFill>
                <a:latin typeface="メイリオ"/>
              </a:rPr>
              <a:t>ロボコン</a:t>
            </a:r>
            <a:r>
              <a:rPr b="1" lang="en-US" sz="4000" spc="-1" strike="noStrike">
                <a:solidFill>
                  <a:srgbClr val="323232"/>
                </a:solidFill>
                <a:latin typeface="メイリオ"/>
              </a:rPr>
              <a:t>2012</a:t>
            </a:r>
            <a:r>
              <a:rPr b="1" lang="ja-JP" sz="4000" spc="-1" strike="noStrike">
                <a:solidFill>
                  <a:srgbClr val="323232"/>
                </a:solidFill>
                <a:latin typeface="メイリオ"/>
              </a:rPr>
              <a:t>　競技内容</a:t>
            </a:r>
            <a:br>
              <a:rPr sz="4000"/>
            </a:br>
            <a:r>
              <a:rPr b="1" lang="ja-JP" sz="4000" spc="-1" strike="noStrike">
                <a:solidFill>
                  <a:srgbClr val="323232"/>
                </a:solidFill>
                <a:latin typeface="メイリオ"/>
              </a:rPr>
              <a:t>（走行体、開発環境）</a:t>
            </a:r>
            <a:endParaRPr b="0" lang="en-US" sz="4000" spc="-1" strike="noStrike">
              <a:solidFill>
                <a:srgbClr val="323232"/>
              </a:solidFill>
              <a:latin typeface="メイリオ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倒立振子制御は</a:t>
            </a: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C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ライブラリとして提供 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制御工学の知識が無くても走行させられます</a:t>
            </a: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基本機能を確認することができるサンプルプログラムも提供</a:t>
            </a:r>
            <a:endParaRPr b="0" lang="en-US" sz="18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nxtOSEK (C/C++)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自動車業界等で使用されている</a:t>
            </a: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OSEK RTOS (TOPPERS/ATK1)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搭載</a:t>
            </a:r>
            <a:endParaRPr b="0" lang="en-US" sz="18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TOPPERS/JSP, TOPPERS/ASP (C/C++)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ご存知、</a:t>
            </a: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TOPPERS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プロジェクトの</a:t>
            </a: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μITRON RTOS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搭載</a:t>
            </a:r>
            <a:endParaRPr b="0" lang="en-US" sz="18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UTOS (C/C++)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開発支援スポンサー：アップウィンドテクノロジー・インコーポレイテッド様の</a:t>
            </a: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RTOS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製品</a:t>
            </a:r>
            <a:endParaRPr b="0" lang="en-US" sz="18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leJOS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Java)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銀河系はね馬チーム（株式会社ジャコム）が倒立振子制御ライブラリを移植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c00000"/>
                </a:solidFill>
                <a:latin typeface="HGP創英角ｺﾞｼｯｸUB"/>
                <a:ea typeface="HGP創英角ｺﾞｼｯｸUB"/>
              </a:rPr>
              <a:t>上記以外の開発環境で参加したい場合は、申込み前に要相談！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2012 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開発環境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95" name="スライド番号プレースホルダ 3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0A700-2B54-4D1B-9996-2C3C9F83F0CF}" type="slidenum">
              <a:rPr b="0" lang="ja-JP" sz="1400" spc="-1" strike="noStrike">
                <a:solidFill>
                  <a:srgbClr val="7f7f7f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BBEEC-CB1A-4E71-AE30-4B6A741CDB31}" type="slidenum">
              <a:rPr b="0" lang="en-US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2012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　競技内容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71000" y="2276280"/>
            <a:ext cx="8729640" cy="32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基本的な競技内容は継続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ベーシック・ステージとボーナス・ステージの</a:t>
            </a: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ステージ制も継続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ボーナス・ステージの難所は変更を検討中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011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の難所を継続する可能性もあり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Bluetooth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は必須　</a:t>
            </a: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or 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採用時ボーナス付与とする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011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で出現した尻尾走行は禁止しない。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45" name="テキスト ボックス 4"/>
          <p:cNvSpPr/>
          <p:nvPr/>
        </p:nvSpPr>
        <p:spPr>
          <a:xfrm>
            <a:off x="304920" y="1028880"/>
            <a:ext cx="8578800" cy="1191240"/>
          </a:xfrm>
          <a:prstGeom prst="rect">
            <a:avLst/>
          </a:prstGeom>
          <a:solidFill>
            <a:srgbClr val="89c3e5"/>
          </a:solidFill>
          <a:ln w="9360">
            <a:solidFill>
              <a:srgbClr val="144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競技規約は、</a:t>
            </a:r>
            <a:r>
              <a:rPr b="0" lang="en-US" sz="3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3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3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011</a:t>
            </a:r>
            <a:r>
              <a:rPr b="0" lang="ja-JP" sz="3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の競技規約を</a:t>
            </a:r>
            <a:br>
              <a:rPr sz="3600"/>
            </a:br>
            <a:r>
              <a:rPr b="0" lang="ja-JP" sz="3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ベースに内容変更する（詳細検討中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テキスト ボックス 5"/>
          <p:cNvSpPr/>
          <p:nvPr/>
        </p:nvSpPr>
        <p:spPr>
          <a:xfrm>
            <a:off x="660240" y="5607000"/>
            <a:ext cx="786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HGP創英角ｺﾞｼｯｸUB"/>
                <a:ea typeface="HGP創英角ｺﾞｼｯｸUB"/>
              </a:rPr>
              <a:t>※</a:t>
            </a:r>
            <a:r>
              <a:rPr b="0" lang="en-US" sz="2400" spc="-1" strike="noStrike">
                <a:solidFill>
                  <a:srgbClr val="c00000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2400" spc="-1" strike="noStrike">
                <a:solidFill>
                  <a:srgbClr val="c00000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2400" spc="-1" strike="noStrike">
                <a:solidFill>
                  <a:srgbClr val="c00000"/>
                </a:solidFill>
                <a:latin typeface="HGP創英角ｺﾞｼｯｸUB"/>
                <a:ea typeface="HGP創英角ｺﾞｼｯｸUB"/>
              </a:rPr>
              <a:t>2012</a:t>
            </a:r>
            <a:r>
              <a:rPr b="0" lang="ja-JP" sz="2400" spc="-1" strike="noStrike">
                <a:solidFill>
                  <a:srgbClr val="c00000"/>
                </a:solidFill>
                <a:latin typeface="HGP創英角ｺﾞｼｯｸUB"/>
                <a:ea typeface="HGP創英角ｺﾞｼｯｸUB"/>
              </a:rPr>
              <a:t>の競技規約は、</a:t>
            </a:r>
            <a:r>
              <a:rPr b="0" lang="en-US" sz="2400" spc="-1" strike="noStrike">
                <a:solidFill>
                  <a:srgbClr val="c00000"/>
                </a:solidFill>
                <a:latin typeface="HGP創英角ｺﾞｼｯｸUB"/>
                <a:ea typeface="HGP創英角ｺﾞｼｯｸUB"/>
              </a:rPr>
              <a:t>4</a:t>
            </a:r>
            <a:r>
              <a:rPr b="0" lang="ja-JP" sz="2400" spc="-1" strike="noStrike">
                <a:solidFill>
                  <a:srgbClr val="c00000"/>
                </a:solidFill>
                <a:latin typeface="HGP創英角ｺﾞｼｯｸUB"/>
                <a:ea typeface="HGP創英角ｺﾞｼｯｸUB"/>
              </a:rPr>
              <a:t>月中旬に公開予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3465360" y="1197000"/>
            <a:ext cx="2416320" cy="37098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【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参考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】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　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2011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　走行体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49" name="四角形吹き出し 10"/>
          <p:cNvSpPr/>
          <p:nvPr/>
        </p:nvSpPr>
        <p:spPr>
          <a:xfrm>
            <a:off x="6369120" y="3154320"/>
            <a:ext cx="1714320" cy="571680"/>
          </a:xfrm>
          <a:prstGeom prst="wedgeRectCallout">
            <a:avLst>
              <a:gd name="adj1" fmla="val -86412"/>
              <a:gd name="adj2" fmla="val 138"/>
            </a:avLst>
          </a:prstGeom>
          <a:solidFill>
            <a:srgbClr val="ccecff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3300"/>
                </a:solidFill>
                <a:latin typeface="HGP創英角ｺﾞｼｯｸUB"/>
                <a:ea typeface="HGP創英角ｺﾞｼｯｸUB"/>
              </a:rPr>
              <a:t>左輪駆動モ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四角形吹き出し 11"/>
          <p:cNvSpPr/>
          <p:nvPr/>
        </p:nvSpPr>
        <p:spPr>
          <a:xfrm>
            <a:off x="1225440" y="3794040"/>
            <a:ext cx="1714680" cy="571680"/>
          </a:xfrm>
          <a:prstGeom prst="wedgeRectCallout">
            <a:avLst>
              <a:gd name="adj1" fmla="val 97231"/>
              <a:gd name="adj2" fmla="val -51180"/>
            </a:avLst>
          </a:prstGeom>
          <a:solidFill>
            <a:srgbClr val="ccecff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3300"/>
                </a:solidFill>
                <a:latin typeface="HGP創英角ｺﾞｼｯｸUB"/>
                <a:ea typeface="HGP創英角ｺﾞｼｯｸUB"/>
              </a:rPr>
              <a:t>右輪駆動モ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四角形吹き出し 12"/>
          <p:cNvSpPr/>
          <p:nvPr/>
        </p:nvSpPr>
        <p:spPr>
          <a:xfrm>
            <a:off x="5611680" y="1149480"/>
            <a:ext cx="1486080" cy="568080"/>
          </a:xfrm>
          <a:prstGeom prst="wedgeRectCallout">
            <a:avLst>
              <a:gd name="adj1" fmla="val -68421"/>
              <a:gd name="adj2" fmla="val 73467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3300"/>
                </a:solidFill>
                <a:latin typeface="HGP創英角ｺﾞｼｯｸUB"/>
                <a:ea typeface="HGP創英角ｺﾞｼｯｸUB"/>
              </a:rPr>
              <a:t>タッチセン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四角形吹き出し 13"/>
          <p:cNvSpPr/>
          <p:nvPr/>
        </p:nvSpPr>
        <p:spPr>
          <a:xfrm>
            <a:off x="685800" y="2017800"/>
            <a:ext cx="1771560" cy="555480"/>
          </a:xfrm>
          <a:prstGeom prst="wedgeRectCallout">
            <a:avLst>
              <a:gd name="adj1" fmla="val 138101"/>
              <a:gd name="adj2" fmla="val 61106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3300"/>
                </a:solidFill>
                <a:latin typeface="HGP創英角ｺﾞｼｯｸUB"/>
                <a:ea typeface="HGP創英角ｺﾞｼｯｸUB"/>
              </a:rPr>
              <a:t>ジャイロセン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四角形吹き出し 14"/>
          <p:cNvSpPr/>
          <p:nvPr/>
        </p:nvSpPr>
        <p:spPr>
          <a:xfrm>
            <a:off x="6143760" y="4214880"/>
            <a:ext cx="1485720" cy="568080"/>
          </a:xfrm>
          <a:prstGeom prst="wedgeRectCallout">
            <a:avLst>
              <a:gd name="adj1" fmla="val -123467"/>
              <a:gd name="adj2" fmla="val -365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3300"/>
                </a:solidFill>
                <a:latin typeface="HGP創英角ｺﾞｼｯｸUB"/>
                <a:ea typeface="HGP創英角ｺﾞｼｯｸUB"/>
              </a:rPr>
              <a:t>光セン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テキスト ボックス 8"/>
          <p:cNvSpPr/>
          <p:nvPr/>
        </p:nvSpPr>
        <p:spPr>
          <a:xfrm>
            <a:off x="324000" y="4924440"/>
            <a:ext cx="8643960" cy="15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入力：　光センサ、ジャイロセンサ、超音波センサ、タッチセンサ、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　　　　モータ（ロータリーエンコーダ値）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出力：　右輪駆動モータ、左輪駆動モータ、尻尾駆動モー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c00000"/>
                </a:solidFill>
                <a:latin typeface="HGP創英角ｺﾞｼｯｸUB"/>
                <a:ea typeface="HGP創英角ｺﾞｼｯｸUB"/>
              </a:rPr>
              <a:t>マイコン上のプログラムによる自律制御（ライントレース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四角形吹き出し 16"/>
          <p:cNvSpPr/>
          <p:nvPr/>
        </p:nvSpPr>
        <p:spPr>
          <a:xfrm>
            <a:off x="6578640" y="2055960"/>
            <a:ext cx="1714320" cy="714240"/>
          </a:xfrm>
          <a:prstGeom prst="wedgeRectCallout">
            <a:avLst>
              <a:gd name="adj1" fmla="val -123231"/>
              <a:gd name="adj2" fmla="val 7995"/>
            </a:avLst>
          </a:prstGeom>
          <a:solidFill>
            <a:srgbClr val="ffcccc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3300"/>
                </a:solidFill>
                <a:latin typeface="HGP創英角ｺﾞｼｯｸUB"/>
                <a:ea typeface="HGP創英角ｺﾞｼｯｸUB"/>
              </a:rPr>
              <a:t>マイコン搭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FFFDB-BCF3-46B5-B7E1-DAFCF201A791}" type="slidenum">
              <a:rPr b="0" lang="en-US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四角形吹き出し 17"/>
          <p:cNvSpPr/>
          <p:nvPr/>
        </p:nvSpPr>
        <p:spPr>
          <a:xfrm>
            <a:off x="754200" y="2776680"/>
            <a:ext cx="1714320" cy="571320"/>
          </a:xfrm>
          <a:prstGeom prst="wedgeRectCallout">
            <a:avLst>
              <a:gd name="adj1" fmla="val 119995"/>
              <a:gd name="adj2" fmla="val 13208"/>
            </a:avLst>
          </a:prstGeom>
          <a:solidFill>
            <a:srgbClr val="ccecff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3300"/>
                </a:solidFill>
                <a:latin typeface="HGP創英角ｺﾞｼｯｸUB"/>
                <a:ea typeface="HGP創英角ｺﾞｼｯｸUB"/>
              </a:rPr>
              <a:t>尻尾駆動モ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四角形吹き出し 18"/>
          <p:cNvSpPr/>
          <p:nvPr/>
        </p:nvSpPr>
        <p:spPr>
          <a:xfrm>
            <a:off x="1305000" y="1044720"/>
            <a:ext cx="1941480" cy="569880"/>
          </a:xfrm>
          <a:prstGeom prst="wedgeRectCallout">
            <a:avLst>
              <a:gd name="adj1" fmla="val 102939"/>
              <a:gd name="adj2" fmla="val -20476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3300"/>
                </a:solidFill>
                <a:latin typeface="HGP創英角ｺﾞｼｯｸUB"/>
                <a:ea typeface="HGP創英角ｺﾞｼｯｸUB"/>
              </a:rPr>
              <a:t>超音波セン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【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参考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】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　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2011 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コース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423720" y="1214280"/>
            <a:ext cx="7448760" cy="5000760"/>
          </a:xfrm>
          <a:prstGeom prst="rect">
            <a:avLst/>
          </a:prstGeom>
          <a:ln w="0">
            <a:noFill/>
          </a:ln>
        </p:spPr>
      </p:pic>
      <p:sp>
        <p:nvSpPr>
          <p:cNvPr id="161" name="四角形吹き出し 4"/>
          <p:cNvSpPr/>
          <p:nvPr/>
        </p:nvSpPr>
        <p:spPr>
          <a:xfrm>
            <a:off x="5487840" y="1962000"/>
            <a:ext cx="1224000" cy="401760"/>
          </a:xfrm>
          <a:prstGeom prst="wedgeRectCallout">
            <a:avLst>
              <a:gd name="adj1" fmla="val -84111"/>
              <a:gd name="adj2" fmla="val 62541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シーソ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四角形吹き出し 5"/>
          <p:cNvSpPr/>
          <p:nvPr/>
        </p:nvSpPr>
        <p:spPr>
          <a:xfrm>
            <a:off x="5803920" y="3479760"/>
            <a:ext cx="1008000" cy="430200"/>
          </a:xfrm>
          <a:prstGeom prst="wedgeRectCallout">
            <a:avLst>
              <a:gd name="adj1" fmla="val -84541"/>
              <a:gd name="adj2" fmla="val -76865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階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四角形吹き出し 9"/>
          <p:cNvSpPr/>
          <p:nvPr/>
        </p:nvSpPr>
        <p:spPr>
          <a:xfrm>
            <a:off x="7743960" y="4849920"/>
            <a:ext cx="1187280" cy="503280"/>
          </a:xfrm>
          <a:prstGeom prst="wedgeRectCallout">
            <a:avLst>
              <a:gd name="adj1" fmla="val -104680"/>
              <a:gd name="adj2" fmla="val 24912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24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相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四角形吹き出し 10"/>
          <p:cNvSpPr/>
          <p:nvPr/>
        </p:nvSpPr>
        <p:spPr>
          <a:xfrm>
            <a:off x="5732640" y="6076800"/>
            <a:ext cx="2842920" cy="390600"/>
          </a:xfrm>
          <a:prstGeom prst="wedgeRectCallout">
            <a:avLst>
              <a:gd name="adj1" fmla="val -66726"/>
              <a:gd name="adj2" fmla="val -85143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ルックアップゲー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四角形吹き出し 11"/>
          <p:cNvSpPr/>
          <p:nvPr/>
        </p:nvSpPr>
        <p:spPr>
          <a:xfrm>
            <a:off x="2563920" y="6070680"/>
            <a:ext cx="1187280" cy="387360"/>
          </a:xfrm>
          <a:prstGeom prst="wedgeRectCallout">
            <a:avLst>
              <a:gd name="adj1" fmla="val 106412"/>
              <a:gd name="adj2" fmla="val -26870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ゴー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四角形吹き出し 12"/>
          <p:cNvSpPr/>
          <p:nvPr/>
        </p:nvSpPr>
        <p:spPr>
          <a:xfrm>
            <a:off x="8264520" y="1022400"/>
            <a:ext cx="431640" cy="1224000"/>
          </a:xfrm>
          <a:prstGeom prst="wedgeRectCallout">
            <a:avLst>
              <a:gd name="adj1" fmla="val -126467"/>
              <a:gd name="adj2" fmla="val -14995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スター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スライド番号プレースホルダ 13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9FF20-0E15-45B8-A952-905B6223BC0A}" type="slidenum">
              <a:rPr b="0" lang="en-US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四角形吹き出し 13"/>
          <p:cNvSpPr/>
          <p:nvPr/>
        </p:nvSpPr>
        <p:spPr>
          <a:xfrm>
            <a:off x="8250120" y="2397240"/>
            <a:ext cx="432000" cy="1996920"/>
          </a:xfrm>
          <a:prstGeom prst="wedgeRectCallout">
            <a:avLst>
              <a:gd name="adj1" fmla="val -160037"/>
              <a:gd name="adj2" fmla="val -47495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ガレージ・イ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四角形吹き出し 14"/>
          <p:cNvSpPr/>
          <p:nvPr/>
        </p:nvSpPr>
        <p:spPr>
          <a:xfrm>
            <a:off x="1325520" y="993600"/>
            <a:ext cx="1224000" cy="419400"/>
          </a:xfrm>
          <a:prstGeom prst="wedgeRectCallout">
            <a:avLst>
              <a:gd name="adj1" fmla="val 177370"/>
              <a:gd name="adj2" fmla="val 121101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坂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684360" y="1116000"/>
            <a:ext cx="4606920" cy="2592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"/>
          <p:cNvPicPr/>
          <p:nvPr/>
        </p:nvPicPr>
        <p:blipFill>
          <a:blip r:embed="rId2"/>
          <a:stretch/>
        </p:blipFill>
        <p:spPr>
          <a:xfrm>
            <a:off x="3960720" y="3852720"/>
            <a:ext cx="4384800" cy="2519640"/>
          </a:xfrm>
          <a:prstGeom prst="rect">
            <a:avLst/>
          </a:prstGeom>
          <a:ln w="0">
            <a:noFill/>
          </a:ln>
        </p:spPr>
      </p:pic>
      <p:sp>
        <p:nvSpPr>
          <p:cNvPr id="172" name="テキスト ボックス 5"/>
          <p:cNvSpPr/>
          <p:nvPr/>
        </p:nvSpPr>
        <p:spPr>
          <a:xfrm>
            <a:off x="5497560" y="155592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シーソ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テキスト ボックス 6"/>
          <p:cNvSpPr/>
          <p:nvPr/>
        </p:nvSpPr>
        <p:spPr>
          <a:xfrm>
            <a:off x="2843280" y="537372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階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【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参考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】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　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2011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　難所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75" name="スライド番号プレースホルダ 7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F1EC2-7296-4C30-8367-0501A4C2531A}" type="slidenum">
              <a:rPr b="0" lang="en-US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テキスト ボックス 5"/>
          <p:cNvSpPr/>
          <p:nvPr/>
        </p:nvSpPr>
        <p:spPr>
          <a:xfrm>
            <a:off x="4587840" y="132084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ルックアップゲー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テキスト ボックス 6"/>
          <p:cNvSpPr/>
          <p:nvPr/>
        </p:nvSpPr>
        <p:spPr>
          <a:xfrm>
            <a:off x="4067280" y="537372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相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684360" y="1197000"/>
            <a:ext cx="3743280" cy="28224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" descr=""/>
          <p:cNvPicPr/>
          <p:nvPr/>
        </p:nvPicPr>
        <p:blipFill>
          <a:blip r:embed="rId2"/>
          <a:stretch/>
        </p:blipFill>
        <p:spPr>
          <a:xfrm>
            <a:off x="5576760" y="3376440"/>
            <a:ext cx="2595600" cy="31514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【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参考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】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　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2011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　難所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81" name="スライド番号プレースホルダ 7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82902-9DDD-4EEF-A9CF-4079DA7B92EB}" type="slidenum">
              <a:rPr b="0" lang="en-US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【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参考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】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　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2011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　競技内容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56760" y="1223640"/>
            <a:ext cx="8572680" cy="16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各チームがインコース／アウトコースをそれぞれ１周し、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その合計タイム（リザルトタイム）を競う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c00000"/>
                </a:solidFill>
                <a:latin typeface="HGP創英角ｺﾞｼｯｸUB"/>
                <a:ea typeface="HGP創英角ｺﾞｼｯｸUB"/>
              </a:rPr>
              <a:t> </a:t>
            </a:r>
            <a:r>
              <a:rPr b="0" lang="ja-JP" sz="2800" spc="-1" strike="noStrike">
                <a:solidFill>
                  <a:srgbClr val="c00000"/>
                </a:solidFill>
                <a:latin typeface="HGP創英角ｺﾞｼｯｸUB"/>
                <a:ea typeface="HGP創英角ｺﾞｼｯｸUB"/>
              </a:rPr>
              <a:t>リザルトタイム ＝ 走行タイム（実測値） ー ボーナスタイム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06280" y="2981160"/>
          <a:ext cx="8721720" cy="3413160"/>
        </p:xfrm>
        <a:graphic>
          <a:graphicData uri="http://schemas.openxmlformats.org/drawingml/2006/table">
            <a:tbl>
              <a:tblPr/>
              <a:tblGrid>
                <a:gridCol w="3318120"/>
                <a:gridCol w="2112840"/>
                <a:gridCol w="3290760"/>
              </a:tblGrid>
              <a:tr h="426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ffffff"/>
                          </a:solidFill>
                          <a:latin typeface="HGP創英角ｺﾞｼｯｸUB"/>
                          <a:ea typeface="HGP創英角ｺﾞｼｯｸUB"/>
                        </a:rPr>
                        <a:t>ボーナス対象（難所クリア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b587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ffffff"/>
                          </a:solidFill>
                          <a:latin typeface="HGP創英角ｺﾞｼｯｸUB"/>
                          <a:ea typeface="HGP創英角ｺﾞｼｯｸUB"/>
                        </a:rPr>
                        <a:t>ボーナスタイ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b587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ffffff"/>
                          </a:solidFill>
                          <a:latin typeface="HGP創英角ｺﾞｼｯｸUB"/>
                          <a:ea typeface="HGP創英角ｺﾞｼｯｸUB"/>
                        </a:rPr>
                        <a:t>備考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b587c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ルックアップゲート通過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１０秒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アウトコース競技者の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ET</a:t>
                      </a: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相撲（押し出し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２５秒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アウトコース競技者の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c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ET</a:t>
                      </a: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相撲（押し倒し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１５秒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アウトコース競技者の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シーソー通過（シングル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１０秒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インコース競技者の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c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シーソー通過（ダブル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２０秒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インコース競技者の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階段通過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１５秒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インコース競技者の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c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ガレージ・イン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５秒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</a:tr>
            </a:tbl>
          </a:graphicData>
        </a:graphic>
      </p:graphicFrame>
      <p:sp>
        <p:nvSpPr>
          <p:cNvPr id="185" name="Rectangle 7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DB389-6173-41AF-88F1-6263A1F90DF5}" type="slidenum">
              <a:rPr b="0" lang="en-US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二輪倒立振子ライントレースロボット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LEGO</a:t>
            </a:r>
            <a:r>
              <a:rPr b="0" lang="en-US" sz="2000" spc="-1" strike="noStrike" baseline="30000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®</a:t>
            </a: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 MINDSTORM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®</a:t>
            </a: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 NXT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ARM7 32bit CPU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光センサ、タッチセンサ、ジャイロセンサ、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超音波センサ搭載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エンコーダ内蔵</a:t>
            </a: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DC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モータ駆動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完全自律停止用の尻尾モータを追加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Bluetooth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通信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2011 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走行体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88" name="スライド番号プレースホルダ 3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551E2-7A81-40F7-BFF4-04B1EDD71FBF}" type="slidenum">
              <a:rPr b="0" lang="ja-JP" sz="1400" spc="-1" strike="noStrike">
                <a:solidFill>
                  <a:srgbClr val="7f7f7f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6573960" y="1428840"/>
            <a:ext cx="21841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206280" y="1060200"/>
            <a:ext cx="8794800" cy="45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011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で尻尾走行の出現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完全自律停止状態を実現するために尻尾を追加したが、尻尾を降ろした</a:t>
            </a: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3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点接地状態での走行が出現！しかも速い！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012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では尻尾走行を禁止しない（速さは魅力）。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ただし、二輪倒立振子制御が必要になるエリア／難所を設定する。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012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走行体は、</a:t>
            </a: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011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から変更しない方針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二輪倒立振子型／尻尾走行型のトランスフォーマー走行体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ただし、尻尾走行時のコースマットとの摩擦軽減のため、尻尾形状などのマイナー変更を検討中。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91" name="スライド番号プレースホルダ 3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96443-246D-44E0-B0AC-747AAD976E17}" type="slidenum">
              <a:rPr b="0" lang="ja-JP" sz="1400" spc="-1" strike="noStrike">
                <a:solidFill>
                  <a:srgbClr val="7f7f7f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2012 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走行体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9T07:17:52Z</dcterms:created>
  <dc:creator>watanabe</dc:creator>
  <dc:description/>
  <dc:language>en-US</dc:language>
  <cp:lastModifiedBy>Natsumi Horii</cp:lastModifiedBy>
  <cp:lastPrinted>2012-02-15T10:47:20Z</cp:lastPrinted>
  <dcterms:modified xsi:type="dcterms:W3CDTF">2012-02-16T02:22:11Z</dcterms:modified>
  <cp:revision>458</cp:revision>
  <dc:subject/>
  <dc:title>ETロボコン公式教材 （その１） モデルの描き方トレーニング</dc:title>
</cp:coreProperties>
</file>